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512-DDE8-4ACC-9FC7-FABF1D85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AD6-F773-44C0-B726-9D01CEA0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EA6-90E7-40BA-8494-A245C141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9AD-3EDA-4369-85FC-A8A5C63F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E14-8A7B-46AD-B92B-CF1CDB18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9F3-36E0-4CE2-A94F-205270E4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CE6-7B4F-4F6B-89A0-75D94A8A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7FC-797D-4806-A180-BBC5E4FD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929-2825-4D15-B30B-B4B22B81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B52-5A89-424A-B6C6-1246E684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1BA-F5AD-4539-B2C0-DD05B17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1AB-C101-4338-9400-5C827E3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78B7-EFBA-4E3C-9553-EB8599344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over_genche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ugs.com/pdrpro/images/15/30004601.jpg&amp;imgrefurl=http://www.drugs.com/pdr/prograniq-ointment.html&amp;h=370&amp;w=480&amp;sz=11&amp;hl=en&amp;start=14&amp;um=1&amp;tbnid=2b_QA3BeOxpD-M:&amp;tbnh=99&amp;tbnw=129&amp;prev=/images%3Fq%3Dacid%2Bnames%26gbv%3D2%26svnum%3D10%26um%3D1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Double Replacemen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ity= moles of solute per Liters of solution  (M=n/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alcuate the molarity when 75.0 grams of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ssolved in 500.0 mL of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ed vs. Di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osmosis-n"/>
          <p:cNvPicPr/>
          <p:nvPr/>
        </p:nvPicPr>
        <p:blipFill>
          <a:blip r:embed="rId1"/>
          <a:stretch/>
        </p:blipFill>
        <p:spPr>
          <a:xfrm>
            <a:off x="304920" y="1523880"/>
            <a:ext cx="8153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molarity of the following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. grams of calcium nitrite in 240.0 mL of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.0 grams of sodium hydroxide in 2.2 liters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rams of solid are required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 L of 0.25 M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olve 27 g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ilute to 0.75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ution of 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e: moles of solute remain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L of a 5.0M stock solution would you need to prepare 100.0mL of 0.25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ve 340 mL of a 0.50 M NaBr solution, what will the concentration be if I add 560 mL more water to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9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hat volume would I need to add water to the solution in the previous problem to get a solution with a concentration of 0.0250 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mass= (mass of solute/mass of solution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cent by mass of NaHCO3 in a solution of 20g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600 g of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by Volu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solute and solvent are liqu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volume = (volume of solute/volume of solution)*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100.0 mL of a 30.0% ethanol solution, what volumes of ethanol and water are in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1650960" y="1600200"/>
          <a:ext cx="5773680" cy="44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1600200"/>
                    <a:ext cx="577368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1871640" y="1889280"/>
          <a:ext cx="5791320" cy="449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1889280"/>
                    <a:ext cx="5791320" cy="44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Nam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300046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133720"/>
            <a:ext cx="4419360" cy="3392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800600" y="6019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cyl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henius Definition of 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s- generat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s-generate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acid_base_scale"/>
          <p:cNvPicPr/>
          <p:nvPr/>
        </p:nvPicPr>
        <p:blipFill>
          <a:blip r:embed="rId1"/>
          <a:stretch/>
        </p:blipFill>
        <p:spPr>
          <a:xfrm>
            <a:off x="1371600" y="2265480"/>
            <a:ext cx="65530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- homogeneous mix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ous- water containing dissolved substance(s)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ot all solutions are aque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nt- “does the dissolv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e- “is dissolved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ientific Instruments"/>
          <p:cNvPicPr/>
          <p:nvPr/>
        </p:nvPicPr>
        <p:blipFill>
          <a:blip r:embed="rId1"/>
          <a:stretch/>
        </p:blipFill>
        <p:spPr>
          <a:xfrm>
            <a:off x="6140520" y="2895480"/>
            <a:ext cx="3003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-, di-, and triprotic acids- have 1, 2, or 3 H atoms that can become ionize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ot all compounds that contain H are acidic and not all hydrogens in an acid will necessarily ion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v. W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 or IIA with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oltypes"/>
          <p:cNvPicPr/>
          <p:nvPr/>
        </p:nvPicPr>
        <p:blipFill>
          <a:blip r:embed="rId1"/>
          <a:stretch/>
        </p:blipFill>
        <p:spPr>
          <a:xfrm>
            <a:off x="2362320" y="3922560"/>
            <a:ext cx="67816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alization Reaction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and base react to yield water and a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beakerofions_before"/>
          <p:cNvPicPr/>
          <p:nvPr/>
        </p:nvPicPr>
        <p:blipFill>
          <a:blip r:embed="rId1"/>
          <a:stretch/>
        </p:blipFill>
        <p:spPr>
          <a:xfrm>
            <a:off x="762120" y="350532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beakerofions"/>
          <p:cNvPicPr/>
          <p:nvPr/>
        </p:nvPicPr>
        <p:blipFill>
          <a:blip r:embed="rId2"/>
          <a:stretch/>
        </p:blipFill>
        <p:spPr>
          <a:xfrm>
            <a:off x="5334120" y="3657600"/>
            <a:ext cx="2813040" cy="2925720"/>
          </a:xfrm>
          <a:prstGeom prst="rect">
            <a:avLst/>
          </a:prstGeom>
          <a:ln w="0">
            <a:noFill/>
          </a:ln>
        </p:spPr>
      </p:pic>
      <p:sp>
        <p:nvSpPr>
          <p:cNvPr id="112" name="Line 10"/>
          <p:cNvSpPr/>
          <p:nvPr/>
        </p:nvSpPr>
        <p:spPr>
          <a:xfrm>
            <a:off x="36576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ration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ly adding a solution of known concentration to one of unknown concentration until a neutral solution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predict endpoint of t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186indicators"/>
          <p:cNvPicPr/>
          <p:nvPr/>
        </p:nvPicPr>
        <p:blipFill>
          <a:blip r:embed="rId1"/>
          <a:srcRect l="0" t="0" r="22499" b="0"/>
          <a:stretch/>
        </p:blipFill>
        <p:spPr>
          <a:xfrm>
            <a:off x="838080" y="990720"/>
            <a:ext cx="7086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hscale"/>
          <p:cNvPicPr/>
          <p:nvPr/>
        </p:nvPicPr>
        <p:blipFill>
          <a:blip r:embed="rId1"/>
          <a:stretch/>
        </p:blipFill>
        <p:spPr>
          <a:xfrm>
            <a:off x="350532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spensions and Colloi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Complete this table using p. 462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600200"/>
          <a:ext cx="8305920" cy="529128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oi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 of Particle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ndall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s Settl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Mixtur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ssol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for solute particles being surrounded by solvent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oniclattice_solvation"/>
          <p:cNvPicPr/>
          <p:nvPr/>
        </p:nvPicPr>
        <p:blipFill>
          <a:blip r:embed="rId1"/>
          <a:stretch/>
        </p:blipFill>
        <p:spPr>
          <a:xfrm>
            <a:off x="4495680" y="2867040"/>
            <a:ext cx="41911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“Dissolving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fluencing Dis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dissolving- influenced by: agitation, temperature, particle size (surfac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that can be dissolved- influenced by: temperature/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man10l"/>
          <p:cNvPicPr/>
          <p:nvPr/>
        </p:nvPicPr>
        <p:blipFill>
          <a:blip r:embed="rId1"/>
          <a:stretch/>
        </p:blipFill>
        <p:spPr>
          <a:xfrm>
            <a:off x="304920" y="1600200"/>
            <a:ext cx="3755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55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bility- the maximum amount of solute per a given amount of solvent (usually 100g w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sol_curve.jpg (53222 bytes)"/>
          <p:cNvPicPr/>
          <p:nvPr/>
        </p:nvPicPr>
        <p:blipFill>
          <a:blip r:embed="rId1"/>
          <a:stretch/>
        </p:blipFill>
        <p:spPr>
          <a:xfrm>
            <a:off x="0" y="1506600"/>
            <a:ext cx="61722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sol_cur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3581280" y="297180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828800" y="914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133720" y="1066680"/>
            <a:ext cx="3124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 rot="19848000">
            <a:off x="3276720" y="167616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 rot="19913400">
            <a:off x="2836440" y="1784880"/>
            <a:ext cx="320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ed Solution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Solubility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520" y="99036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s in water- generally more soluble at higher temperatur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N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0" y="99072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 in water- solubility decreases with increased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396252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solubi1"/>
          <p:cNvPicPr/>
          <p:nvPr/>
        </p:nvPicPr>
        <p:blipFill>
          <a:blip r:embed="rId1"/>
          <a:stretch/>
        </p:blipFill>
        <p:spPr>
          <a:xfrm>
            <a:off x="914400" y="2590920"/>
            <a:ext cx="7010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olar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18:46Z</dcterms:created>
  <dc:creator>udsd</dc:creator>
  <dc:description/>
  <dc:language>en-US</dc:language>
  <cp:lastModifiedBy>dpav</cp:lastModifiedBy>
  <dcterms:modified xsi:type="dcterms:W3CDTF">2011-03-17T12:25:40Z</dcterms:modified>
  <cp:revision>41</cp:revision>
  <dc:subject/>
  <dc:title>Acid-Base Chemistry</dc:title>
</cp:coreProperties>
</file>